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D6643-1917-41B6-97D0-93C5D8D9AD9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48927-2951-4200-AE00-559733DA7B2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FC53C-6CD3-432F-8692-255B694DA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4B02A-AD25-40A0-AD62-C6317E71E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E9F00-4C8B-4DA7-9651-96EF521C8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4A7DC-2C18-494A-B121-4E3A85AB7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BDAF8-4244-412D-9A89-F64F9E34B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2F87A-813E-4D51-B29A-5818EEB25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6DD19-87FD-49C0-A8BC-006D7A15B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EAE6A-E461-43AA-B2D1-1AFB3B289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369F1-C599-403C-98CA-8DB028FAB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033A5-45C7-439D-A9DF-B331C6A31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B5056-E29C-45C3-AD44-BF764424F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89D6E-D5D5-42D7-BB0C-A77138B42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C83F2-DC8A-4F3E-BC82-FAF843F54EF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438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6ea92d"/>
                </a:solidFill>
                <a:latin typeface="Arial"/>
              </a:rPr>
              <a:t>Загрязнение окружающей среды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66"/>
                </a:solidFill>
                <a:latin typeface="Arial"/>
              </a:rPr>
              <a:t>Истощение природных ресурсов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работка полезных ископаемых до степени нерентабельности дальнейшей разработк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евышение темпов и объемов добычи над способностью естественного возобновления возобновляемых ресурс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то переруб леса, перелов рыбы, перевыпас скота и сбой пастбищ, несоблюдение агротехнических мероприятий при обработке почвы и истощение их плодородия, загрязнение водотоков и водоемов промышленными отходами так, что их невозможно практически использовать, загрязнение воздуха в крупных городах и т. д. И. п. р. бывает и естественным. Например, быстрое размножение ондатры привело в некоторых районах к истреблению ее кормов и гибели зверька; размножение норки — к исчезновению некоторых видов рыб — ее пищи и др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 развитием и прогрессом общества нарастает использование природных ресурсов, поэтому возникает проблема предотвращения этого процесс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Arial"/>
              </a:rPr>
              <a:t>Охрана природ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4"/>
          <p:cNvPicPr/>
          <p:nvPr/>
        </p:nvPicPr>
        <p:blipFill>
          <a:blip r:embed="rId1"/>
          <a:stretch/>
        </p:blipFill>
        <p:spPr>
          <a:xfrm>
            <a:off x="228600" y="1371600"/>
            <a:ext cx="3429000" cy="388620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6"/>
          <p:cNvSpPr/>
          <p:nvPr/>
        </p:nvSpPr>
        <p:spPr>
          <a:xfrm>
            <a:off x="228600" y="571464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www.computerschool.ru/gallery/page3.ht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8"/>
          <p:cNvSpPr/>
          <p:nvPr/>
        </p:nvSpPr>
        <p:spPr>
          <a:xfrm>
            <a:off x="4038480" y="1409760"/>
            <a:ext cx="472464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та форма — реакция на разрушительную деятельность человека в окружающей среде. В отличие от потребления, это осознанная форма общественной и государственной деятельности, направленная на сохранение и воспроизводство природных ресурсов. Будучи вторичной формой взаимодействия общества и природы, охрана природы возникает и совершенствуется по мере роста потребления и использования природной среды. Охрана появляется и совершенствуется там, где возникает угроза уничтожения природной среды, где возникает и развивается потребление природ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Рациональное использование природных ресурс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понятие «рационального» вкладывается не только экономическое, но и экологическое содержание. Иначе говоря, рациональное — это экономное, бережное использование источников природного сырья, природных ресурсов с учетом требований охраны окружающей среды. Поэтому нельзя считать рациональным такое бережное, экономное, эффективное использование природных ресурсов, которое оставляет глубокий отрицательный след на состоянии окружающей сред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середине XX в. (50—60-е гг.) проблема рационального использования природных ресурсов как форма охраны природы перерастает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в защиту, оздоровление окружающей человека среды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 отличие от предшествующих форм, где непосредственным объектом охраны являлись природные объекты и их ресурсы, здесь защита окружающей природной среды выдвигает в качестве непосредственного объекта охраны —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человека, его жизнь, его здоровье, его генетическое будуще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66"/>
                </a:solidFill>
                <a:latin typeface="Arial"/>
              </a:rPr>
              <a:t>Рациональное использование природных ресурсо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6" descr="6"/>
          <p:cNvPicPr/>
          <p:nvPr/>
        </p:nvPicPr>
        <p:blipFill>
          <a:blip r:embed="rId1"/>
          <a:stretch/>
        </p:blipFill>
        <p:spPr>
          <a:xfrm>
            <a:off x="304920" y="1143000"/>
            <a:ext cx="3200400" cy="460224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7"/>
          <p:cNvSpPr/>
          <p:nvPr/>
        </p:nvSpPr>
        <p:spPr>
          <a:xfrm>
            <a:off x="0" y="5866920"/>
            <a:ext cx="556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www.berdsk-city.ru/provedyon-monitoring-zagryazneniya-okruzhayushhej-sredy-berdska.htm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9"/>
          <p:cNvSpPr/>
          <p:nvPr/>
        </p:nvSpPr>
        <p:spPr>
          <a:xfrm>
            <a:off x="3886200" y="1507680"/>
            <a:ext cx="48006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середине XX в. (50—60-е гг.) проблема рационального использования природных ресурсов как форма охраны природы перерастает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в защиту, оздоровление окружающей человека среды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 отличие от предшествующих форм, где непосредственным объектом охраны являлись природные объекты и их ресурсы, здесь защита окружающей природной среды выдвигает в качестве непосредственного объекта охраны —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человека, его жизнь, его здоровье, его генетическое будуще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66"/>
                </a:solidFill>
                <a:latin typeface="Arial"/>
              </a:rPr>
              <a:t>Необходимо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0773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чистка вредных выбросов( например, с помощью фильтров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пользование очистных сооружений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странение самих причин загрязнения, что требует разработки малоотходных, а в перспективе и безотходных технологий производства, которые позволяли бы комплексно использовать исходное сырье и утилизировать максимум вредных для биосферы вещест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ведение в учебных заведениях экологического воспитания, формирующем уважение к природ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66"/>
                </a:solidFill>
                <a:latin typeface="Arial"/>
              </a:rPr>
              <a:t>Заключен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итоге можно сказать, что проблема охраны окружающей природной среды во всех ее трех формах — консервативной, рационального использования природных ресурсов и оздоровления окружающей человека среды — из региональной постепенно превращается в национальную, а затем и международную проблему, решение которой зависит от совместных усилий всего международного сообщества. Для глобального решения проблемы необходимо обеспечить взаимодействие международной охраны окружающей среды, связанной с выполнением международных обязательств и договоров, и национальной и региональной охраны приро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грязнение природной среды вредными для человека отходами, истощение природных ресурсов и угроза разрушения экологических связей в природе неуклонно приводит к мировому кризис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Arial"/>
              </a:rPr>
              <a:t>Список литератур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Яковиев В.Н. Экологическое право. К., 1998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Шешученко Ю.С. Правовые проблемы экологии. Киев, 1989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тров В.В. Экологическое право России, М., 1997г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http://www.bestreferat.ru/referat-62209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66"/>
                </a:solidFill>
                <a:latin typeface="Arial"/>
              </a:rPr>
              <a:t>Спасибо за внимание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66"/>
                </a:solidFill>
                <a:latin typeface="Arial"/>
              </a:rPr>
              <a:t>Цель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оказать актуальность проблем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66"/>
                </a:solidFill>
                <a:latin typeface="Arial"/>
              </a:rPr>
              <a:t>Задачи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яснить основные источники загрязнения окружающей сред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ути решения проблемы загрязнения окружающей среды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Arial"/>
              </a:rPr>
              <a:t>Введе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кружающая природная среда служит условием и средством жизни человека, территории, на которой он проживает, пространственным пределом осуществляемой государственной власти, местом для размещения объектов промышленности, сельского хозяйства и других объектов культурно-бытового назначе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еловек воздействует на естественную среду своего обитания не только потребляя ее ресурсы, но и изменяя природную среду, приспосабливая ее для решения своих практических, хозяйственных задач. В силу этого человеческая деятельность оказывает существенное влияние на окружающую среду, подвергая ее изменениям, которые затем влияют и на самого человек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66"/>
                </a:solidFill>
                <a:latin typeface="Arial"/>
              </a:rPr>
              <a:t>Формы взаимодействия человека с окружающей средой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Экономическа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 это потребление природы человеком, использование природы для удовлетворения человеком своих материальных и духовных потребносте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Экологическа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  это охрана окружающей природной среды с целью сохранения человека как биологического и социального организма и его естественной среды обита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циональное использование природных ресурсов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 понятие «рационального» вкладывается не только экономическое, но и экологическое содержание. Иначе говоря, рациональное — это экономное, бережное использование источников природного сырья, природных ресурсов с учетом требований охраны окружающей сред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Негативная деятельность человека по отношению к природной среде проявляется объективно в трех взаимосвязанных формах</a:t>
            </a:r>
            <a:r>
              <a:rPr b="1" lang="ru-RU" sz="4000" spc="-1" strike="noStrike">
                <a:solidFill>
                  <a:srgbClr val="ff0066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3048120"/>
            <a:ext cx="8229600" cy="307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грязнение окружающей природной сред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стощение природных ресурс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зрушение природной сред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Arial"/>
              </a:rPr>
              <a:t>Загрязнени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грязнение окружающей среды подразделяется на несколько видо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ылево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азово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имическое(в том числе загрязнение почвы химикатами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роматическо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пловое (изменение температуры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многие друг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точником загрязнения окружающей природной среды выступает хозяйственная деятельность человека (промышленность, сельское хозяйство, транспорт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66"/>
                </a:solidFill>
                <a:latin typeface="Arial"/>
              </a:rPr>
              <a:t>Из всех видов загрязнения можно выделить основны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457200" y="1600200"/>
          <a:ext cx="8229600" cy="403848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85716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НОВНЫЕ ТИПЫ ЗАГРЯЗНЕНИЯ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8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изическое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тепловое, шумовое, электромагнитно, световое, радиоактивное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имическое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тяжелые металлы, пестициды, пластмассы и др. химические вещества)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иологическое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биогенное, микробиологическое, генетическое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формационное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информационный шум, ложная информация, факторы беспокойств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380880" y="304920"/>
          <a:ext cx="8229600" cy="579096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0126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Загрязнение окружающей среды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новные источники загрязнения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новные вредные вещества 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7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тмосфер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мышленно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ранспор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пловые электростан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ксиды углерода, серы, азота</a:t>
                      </a:r>
                      <a:br>
                        <a:rPr sz="1800"/>
                      </a:b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рганические соединения</a:t>
                      </a:r>
                      <a:br>
                        <a:rPr sz="1800"/>
                      </a:b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мышленная пыль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5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идросфер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очные воды</a:t>
                      </a:r>
                      <a:br>
                        <a:rPr sz="1800"/>
                      </a:b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течки нефти</a:t>
                      </a:r>
                      <a:br>
                        <a:rPr sz="1800"/>
                      </a:b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втотранспорт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яжелые металлы</a:t>
                      </a:r>
                      <a:br>
                        <a:rPr sz="1800"/>
                      </a:b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фть</a:t>
                      </a:r>
                      <a:br>
                        <a:rPr sz="1800"/>
                      </a:b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фтепродукты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0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итосфер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ходы промышленности и</a:t>
                      </a: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ельского хозяйства</a:t>
                      </a: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быточное использование</a:t>
                      </a: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добрений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ластмассы</a:t>
                      </a:r>
                      <a:br>
                        <a:rPr sz="1800"/>
                      </a:b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зина</a:t>
                      </a:r>
                      <a:br>
                        <a:rPr sz="1800"/>
                      </a:b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яжелые металлы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66"/>
                </a:solidFill>
                <a:latin typeface="Arial"/>
              </a:rPr>
              <a:t>Загрязнению подвергаются атмосфера (воздушная среда), гидросфера (водная среда) и литосфера (твердая поверхность) Земл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6" descr="5"/>
          <p:cNvPicPr/>
          <p:nvPr/>
        </p:nvPicPr>
        <p:blipFill>
          <a:blip r:embed="rId1"/>
          <a:stretch/>
        </p:blipFill>
        <p:spPr>
          <a:xfrm>
            <a:off x="1554120" y="1600200"/>
            <a:ext cx="6033960" cy="452592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8"/>
          <p:cNvSpPr/>
          <p:nvPr/>
        </p:nvSpPr>
        <p:spPr>
          <a:xfrm>
            <a:off x="2057400" y="6168240"/>
            <a:ext cx="507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http://www.news-zwezd.ru/pages-view-341.htm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Трубин Сергей Александрович</cp:lastModifiedBy>
  <dcterms:modified xsi:type="dcterms:W3CDTF">2012-09-05T10:35:44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